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922175"/>
        <c:axId val="90758691"/>
      </c:barChart>
      <c:catAx>
        <c:axId val="85922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58691"/>
        <c:crosses val="autoZero"/>
        <c:auto val="1"/>
        <c:lblAlgn val="ctr"/>
        <c:lblOffset val="100"/>
        <c:noMultiLvlLbl val="0"/>
      </c:catAx>
      <c:valAx>
        <c:axId val="90758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22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402-57AE-4CE2-AB82-7F75BD34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E36-1B58-42C0-9892-1718855F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840-DFD7-4048-8752-80DFAFA0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FE8B-FBA6-41AB-BBC2-3C96F14B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4FE-5C4F-45CF-A2BD-311209D6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804-0C04-461A-8770-6CF875DB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2C3-ABD6-4B96-BD79-D099FF8B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938-A593-4B96-A762-9315EE84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E83-52CC-4D6C-8465-62E55CB1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B3F-DFD0-40D9-A08D-ADC9D8E5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D790-462A-4E95-9B54-3EFA057C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4D1-9642-428D-B4B9-07DA9D44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C5E83-6C82-4B74-93B7-DAF1B6F1D3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