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4377"/>
        <c:axId val="44174071"/>
      </c:barChart>
      <c:catAx>
        <c:axId val="70243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74071"/>
        <c:crosses val="autoZero"/>
        <c:auto val="1"/>
        <c:lblAlgn val="ctr"/>
        <c:lblOffset val="100"/>
        <c:noMultiLvlLbl val="0"/>
      </c:catAx>
      <c:valAx>
        <c:axId val="441740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43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47A-E028-4A8B-9EC7-1DDB3D12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52C1-0E8A-4261-8BC5-2B72EA49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3A2F-AF38-4303-AEA1-66222CCE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B55-BA46-4B55-A521-ECAD9EC8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5904-A241-4D83-9C70-41C7F5ED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E6D-81F2-40F2-BE8B-87BEAF2A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24C4-0E3D-4B92-B28F-AAE3F486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1CB3-6302-43B6-906F-AC92837E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AA1-5D4F-4AD8-9AD8-8364CE6E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F71-680B-4BC3-852F-DEFB282F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A04-F14E-4EAA-ACB9-AC8891E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426-3DC5-4BCD-85CB-2BCB4A67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9D2F8-654B-4101-A148-FFC9997C30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