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08524"/>
        <c:axId val="41729639"/>
      </c:barChart>
      <c:catAx>
        <c:axId val="77308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29639"/>
        <c:crosses val="autoZero"/>
        <c:auto val="1"/>
        <c:lblAlgn val="ctr"/>
        <c:lblOffset val="100"/>
        <c:noMultiLvlLbl val="0"/>
      </c:catAx>
      <c:valAx>
        <c:axId val="41729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08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D247-CC4F-41FD-B446-3C86EFCA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62E-DF5E-490A-A80C-45F0A852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8A7-86FA-46EC-B56D-7EFBA40C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5E2-7B4B-4BFB-AC47-E381E97D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F6D-12A4-451B-A9CA-FB733DBC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1EF-BCB9-4613-A65E-88056DF7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733-7825-401C-AF62-364F4DA1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CEB-07FD-4094-8D1D-FBA01611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D49-1A06-48AD-91EE-AAFEE025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31A-F0C8-4895-8697-CDAD5295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119-BE68-4B64-A726-042690A1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524-B526-42EC-8EC2-641F6379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22F44-47F5-460E-80B2-CF46387113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