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976243"/>
        <c:axId val="74319576"/>
      </c:barChart>
      <c:catAx>
        <c:axId val="209762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319576"/>
        <c:crosses val="autoZero"/>
        <c:auto val="1"/>
        <c:lblAlgn val="ctr"/>
        <c:lblOffset val="100"/>
        <c:noMultiLvlLbl val="0"/>
      </c:catAx>
      <c:valAx>
        <c:axId val="743195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762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25BF-775B-4E02-A7D2-C23045E5E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829A-2225-40DE-87B2-068D60ED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8834-A4E4-4D57-904E-C1C7F0731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3AD4-2E1C-4730-9855-26D7B807A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F0F0-B7E5-41D8-A329-2E5380AF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8A92-42D0-497D-B18A-DABF8EA5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2255-63E9-4A0C-8852-841C6617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605B-BE9E-47C2-9685-C19BC147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2B2C-0227-42E7-B02A-8D26A8DE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C23D-9B2E-4CCA-A578-2110C4B2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A244-E313-4058-9A7B-4CF88F18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63B5-07BE-4013-826A-8E8203E5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3F54D-040A-4DDC-9AD0-B63BE4F22F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