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10586"/>
        <c:axId val="73454668"/>
      </c:barChart>
      <c:catAx>
        <c:axId val="17310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54668"/>
        <c:crosses val="autoZero"/>
        <c:auto val="1"/>
        <c:lblAlgn val="ctr"/>
        <c:lblOffset val="100"/>
        <c:noMultiLvlLbl val="0"/>
      </c:catAx>
      <c:valAx>
        <c:axId val="73454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0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864-6D72-493C-A442-1F69F1DA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77C-7C75-4FAC-BD77-27F7FB9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0E5-FD89-494C-8DD7-C57FCE9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6BC-A9C4-48BF-BC19-4FDD7A8F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048-156C-4720-AEB2-83BCE22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15D-2BD4-4D80-B049-64C5204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5AF-73B2-44EA-93F6-9B7E8F74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F6A-D930-4275-A881-15A0587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A9A-B462-4EA2-8E58-F789CE41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193-3A26-4CC1-A73E-97C302C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660-40A7-4724-838E-C186B2D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0A5-1FF7-424D-B373-A5D7A53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EB6BC-4522-423B-B630-22AE4AEE52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