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30935"/>
        <c:axId val="19417217"/>
      </c:barChart>
      <c:catAx>
        <c:axId val="16930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17217"/>
        <c:crosses val="autoZero"/>
        <c:auto val="1"/>
        <c:lblAlgn val="ctr"/>
        <c:lblOffset val="100"/>
        <c:noMultiLvlLbl val="0"/>
      </c:catAx>
      <c:valAx>
        <c:axId val="19417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30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511-B9AC-4588-B3C9-199B890E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DC3-44E5-4F3B-BA82-19E69CCB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AB1-8790-467F-93CB-1508FFF9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AA2-0662-4E82-8B6C-63089094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F65-20C8-4A12-84D0-AEDF2BD9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DF7-6969-4259-B143-BD090326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1A6-21CA-4D7B-BD57-59A26992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6C2-0B31-4E55-AD10-CCDF2FB4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411-C36D-43A9-A661-C55CC1C3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D9C-B65A-4507-801A-7A275337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22B-0A95-4FF8-ACCA-AE4517F5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D50-FA44-457A-A693-D742DADB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487BB-B445-4049-8E18-D3F1CD376C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