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56209"/>
        <c:axId val="34244175"/>
      </c:barChart>
      <c:catAx>
        <c:axId val="42356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44175"/>
        <c:crosses val="autoZero"/>
        <c:auto val="1"/>
        <c:lblAlgn val="ctr"/>
        <c:lblOffset val="100"/>
        <c:noMultiLvlLbl val="0"/>
      </c:catAx>
      <c:valAx>
        <c:axId val="34244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56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7CA-932B-4B96-867F-DC7B06A4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C59-F536-44AB-B97B-7CDBEE71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D9E3-8032-45CD-B281-7DEF8F70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00BB-A7F1-43DB-A43E-0FE73B7D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508-B554-4F12-BA90-B73776FB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4CA-19E5-4D13-B978-18C3F49E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4CC-B7EC-463A-9535-0BF4AB78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BBDA-6B03-4695-AFCF-665BFBE9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638-47AD-4F0D-BB46-9AE9A2A9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DCF-F1D1-4AF3-9936-CBDBDC74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ECC4-BBE8-45F0-8701-BC2FBE12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BB9-94CA-4E4F-AEEE-A0F09F92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50D41-D5F6-4CC5-8192-0E354577EA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