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26656"/>
        <c:axId val="42334825"/>
      </c:barChart>
      <c:catAx>
        <c:axId val="85626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34825"/>
        <c:crosses val="autoZero"/>
        <c:auto val="1"/>
        <c:lblAlgn val="ctr"/>
        <c:lblOffset val="100"/>
        <c:noMultiLvlLbl val="0"/>
      </c:catAx>
      <c:valAx>
        <c:axId val="42334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26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D5F-977B-4A24-AF05-71781F14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EE3-BAD3-4C0D-ADA8-0A44BCDF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58F-6C30-4E05-86D4-EB060216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C4C-5A24-4F49-90B8-C404A8CD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349-66F5-4510-B8EC-CA427EBF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3A6-67C0-4932-B783-652A214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7B1-67B7-4156-A153-CD306AFD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E48-E8DC-4410-BFAD-AE1EE13C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762-FEFF-4BFC-8FF7-BA2C06A4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C6E-E661-498D-A3E1-273695E7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CE6-19DD-4F0D-BD3E-56B8BF05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E74-0110-4680-AE94-26671034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2BF8B-4651-4916-94ED-104E7B54B8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