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0360613"/>
        <c:axId val="62036024"/>
      </c:barChart>
      <c:catAx>
        <c:axId val="1036061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036024"/>
        <c:crosses val="autoZero"/>
        <c:auto val="1"/>
        <c:lblAlgn val="ctr"/>
        <c:lblOffset val="100"/>
        <c:noMultiLvlLbl val="0"/>
      </c:catAx>
      <c:valAx>
        <c:axId val="6203602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36061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E690F-3D49-4F50-83FB-9C5E31A9B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1C37D-9D1E-464C-8D28-20EC912E3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A8427-EE9E-4811-85CA-A988BD389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0CB0A-2418-46A1-833A-0D3F32E1C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4CD2A-3B8C-4453-B6FB-1526D9C59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C79A5-D872-4B05-981E-B1D192F4B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50588-114B-4116-B7F4-C5E83C2F4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DE7C1-6C5D-4E3A-9C88-438FA72AF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8753A-C6AD-46BF-B9F7-27F49CA9C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1D1B3-CE18-4C2F-B89A-02F1B706B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20667-CA4B-4E6E-AB7E-29705BE93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853DC-7B40-40C1-97E4-81CEDD110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7D471B-E358-48CB-9E6F-4186A6992DB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